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804-C950-4383-9DA4-81B1B209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AD7-32D2-4D24-9222-85A6A728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294-F261-4546-AFD4-045A52ED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83E-3067-4439-9AC7-260E6E9E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94B5-E81F-4177-B33D-A219BD73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E4D4-8DA3-4F50-B86F-385A83A8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2069-7F9A-4276-B846-AAFF8984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F433-E6D2-44D4-A2D0-18326098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673B-F042-4680-B3C9-E41A6A56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971F-7D4F-4D01-BFCB-973FF6A6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2187-DE7F-4425-95CB-3E00626C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C7E-EB4E-442A-988C-EFBCB450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022B-5D6C-4D65-959D-B4AF30F9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279F-E734-43E0-BEB9-322F1685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82CF-D13A-4C43-A6E7-9FA5EBD2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542D-A6F1-4990-82BB-77703486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E90C-9D74-44AE-846F-EA2E150A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782-F0C8-467A-8989-E00236FD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96D-6DAA-4367-8453-39370886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BB0-C00B-4DFE-B669-F95D561D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01B-B1CE-4417-B85B-271F27C4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1D1-A054-4497-8BDF-904A7735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F04-AB9B-475D-B55B-D5BCECAB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B05-41DD-4E16-A31F-57365DC3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7ED9-82BE-437C-8297-25488C3E2E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71C7-480A-421A-921C-D919701283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youtube.com/watch?v=_-ga-XGJJ7E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youtube.com/watch?v=baR5HeojBHc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japan_whal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ristopher Macia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panese Wha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 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whalemeatstockpileGraph"/>
          <p:cNvPicPr/>
          <p:nvPr/>
        </p:nvPicPr>
        <p:blipFill>
          <a:blip r:embed="rId1"/>
          <a:stretch/>
        </p:blipFill>
        <p:spPr>
          <a:xfrm>
            <a:off x="0" y="1295280"/>
            <a:ext cx="5029200" cy="556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minke-whale-meat-big"/>
          <p:cNvPicPr/>
          <p:nvPr/>
        </p:nvPicPr>
        <p:blipFill>
          <a:blip r:embed="rId2"/>
          <a:stretch/>
        </p:blipFill>
        <p:spPr>
          <a:xfrm>
            <a:off x="5029200" y="12952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t Availabl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t of wha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rings tons more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an any other mammal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reat amount of meat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 2006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bout 4,700 tons of meat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re caught by 2006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s is just the unsold meat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 Japan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whale_minke_caught_net_japan"/>
          <p:cNvPicPr/>
          <p:nvPr/>
        </p:nvPicPr>
        <p:blipFill>
          <a:blip r:embed="rId1"/>
          <a:stretch/>
        </p:blipFill>
        <p:spPr>
          <a:xfrm>
            <a:off x="0" y="1371600"/>
            <a:ext cx="4952880" cy="5486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Size of Wha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Each whale can be easily up to 15 tons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whale_species_comparison_chart"/>
          <p:cNvPicPr/>
          <p:nvPr/>
        </p:nvPicPr>
        <p:blipFill>
          <a:blip r:embed="rId2"/>
          <a:stretch/>
        </p:blipFill>
        <p:spPr>
          <a:xfrm>
            <a:off x="4876920" y="1371600"/>
            <a:ext cx="4267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whale_spill_1.jpg image by rhodilee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http://www.environment.gov.au/coasts/publications/images/whales-full-size.jpg"/>
          <p:cNvPicPr/>
          <p:nvPr/>
        </p:nvPicPr>
        <p:blipFill>
          <a:blip r:embed="rId2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www.blue-whale.info/Blue_whale_size_comparison.GIF"/>
          <p:cNvPicPr/>
          <p:nvPr/>
        </p:nvPicPr>
        <p:blipFill>
          <a:blip r:embed="rId3"/>
          <a:stretch/>
        </p:blipFill>
        <p:spPr>
          <a:xfrm>
            <a:off x="0" y="0"/>
            <a:ext cx="4191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harpooned_whale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rpooning Wha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asically just shoot the whale with a giant spear called a harpoon and real the whale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youtube.com/watch?v=_-ga-XGJJ7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aolnews.com/world/article/japanese-ship-detains-anti-whaling-activist-peter-bethune/193585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guardian.co.uk/environment/2010/jan/06/japan-whaling-sea-shepherd-greenpe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en.wikipedia.org/wiki/Whaling_in_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ehow.com/about_5009827_what-whales-used-today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animallaw.info/articles/ovuswhalelaws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en did it start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t has begun in the early  12</a:t>
            </a:r>
            <a:r>
              <a:rPr b="0" lang="en-US" sz="3200" spc="-1" strike="noStrike" baseline="30000">
                <a:solidFill>
                  <a:srgbClr val="b2b2b2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 cent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apan was heavily involved in the 20</a:t>
            </a:r>
            <a:r>
              <a:rPr b="0" lang="en-US" sz="3200" spc="-1" strike="noStrike" baseline="30000">
                <a:solidFill>
                  <a:srgbClr val="b2b2b2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centur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world war Japan's whaling was limited to more common hunting gr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nin Isl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ovide meat and oil for domestic and military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en did it start? Co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ling there was stopped in March 1945 when the islands were taken by US for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November 1945 the whaling stations got permission to reop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haling ships were taken by the Japanese nav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end of the war, the factories ships and most of the caught boats had been su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ing Wha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Japan-whaling-footage-horrifying-Debus-1"/>
          <p:cNvPicPr/>
          <p:nvPr/>
        </p:nvPicPr>
        <p:blipFill>
          <a:blip r:embed="rId1"/>
          <a:stretch/>
        </p:blipFill>
        <p:spPr>
          <a:xfrm>
            <a:off x="5638680" y="1143000"/>
            <a:ext cx="350532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o Can Whale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The earliest were the Vik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Then Spain, France, Englan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and the Netherl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Whaling is strictly restric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to Institute of Cetace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Research.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And other institutions.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Figure11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5434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they use Whale for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at- often served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aw and chopped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 to steak slic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lubber- burnt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wn used for oil, make up, soap, giving stuff a glossy look. Also fuel for lamps and machiner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ne- boiled for glue, smashed down for fertilizer, also made in to too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whaling is used for? Co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bergris- very expensive, used in perfumes, disposed of in ocean as was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ientific Research- see if whaling can be done sustainably, many countries disapprove of commercial whal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6a00d8341c630a53ef0120a7ad8d17970b-600wi"/>
          <p:cNvPicPr/>
          <p:nvPr/>
        </p:nvPicPr>
        <p:blipFill>
          <a:blip r:embed="rId1"/>
          <a:stretch/>
        </p:blipFill>
        <p:spPr>
          <a:xfrm>
            <a:off x="4648320" y="1143000"/>
            <a:ext cx="4495680" cy="5715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apanese whaling Bo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ass whal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ssels to prev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from kill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boat cost $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l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boat was ca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dy Gi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Ady-Gil-001"/>
          <p:cNvPicPr/>
          <p:nvPr/>
        </p:nvPicPr>
        <p:blipFill>
          <a:blip r:embed="rId1"/>
          <a:stretch/>
        </p:blipFill>
        <p:spPr>
          <a:xfrm>
            <a:off x="4952880" y="371484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ling Vesse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youtube.com/watch?v=baR5HeojBH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e Sea Shepherd Conservation Society boat crashed with the Japanese whaling bo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rashed on Feb. 6</a:t>
            </a:r>
            <a:r>
              <a:rPr b="0" lang="en-US" sz="3200" spc="-1" strike="noStrike" baseline="30000">
                <a:solidFill>
                  <a:srgbClr val="b2b2b2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Japan-whaling-footage-horrifying-Debus-2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ling Law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86 whaling has been banned at the international whaling conven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72 the Marine Mammal Protection Act protected all ocean mammals from being hunted, killed, injured or harass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MPA also prevents ships from getting within a certain distance from the wh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91 the united nations banned fishnets and in 1993 gillnets were banned in Hawai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way and Japan constantly wh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say they whale for food and for money because the poor in their country needs more money, and for resou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9:06:08Z</dcterms:created>
  <dc:creator>sasd</dc:creator>
  <dc:description/>
  <dc:language>en-US</dc:language>
  <cp:lastModifiedBy>christopher</cp:lastModifiedBy>
  <dcterms:modified xsi:type="dcterms:W3CDTF">2010-02-23T05:02:15Z</dcterms:modified>
  <cp:revision>21</cp:revision>
  <dc:subject/>
  <dc:title>Christopher Macias</dc:title>
</cp:coreProperties>
</file>